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3428-B281-4DB9-B9F0-1F487BB0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F128-70F0-4647-8042-FA602806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3E92-45DF-4717-8826-8BA24F8C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0692-D6F1-46DF-B545-389A59BB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70EFB-678E-41A9-813C-935A5DAA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E03B1-6960-436B-AA0A-5F324560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618CC-BFB3-4099-82F9-D39FB211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B62E7-4FFC-47FC-A650-524034C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5908B-C843-4E97-BE57-AEF77AB8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ABF5C-8C87-477D-86B8-E53A7FDB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D8FAB-4F4D-482B-886C-E446A54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AFC2-FBCB-47A7-B9D4-D06010F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B1526-9BC2-43F6-9E5D-774945BF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E58FD-206D-4B45-8958-093BC842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5C129-A790-464D-9271-3642A937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65479-B435-40C7-9AB6-CD21CF2D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01601-D719-4A3E-BB54-9114714E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2581-4355-425A-9611-63475817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679F-9CD7-4ADE-8412-90E6B7F7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7103-9879-454F-9518-F8CD05B4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98DCE-C6BE-4CF6-BB14-8ACF6BF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449A-B7C3-40A7-98F1-9CD40665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B60D-6EAC-4596-846A-030BE0D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036D-C3D8-41EE-93FF-6A754D0B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15CB-68AB-4F02-A960-3E11E5879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842920" y="624852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219720" y="189000"/>
            <a:ext cx="260028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953-866C-4798-B5B0-032753E62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2843280" y="624852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15876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組み込み環境における</a:t>
            </a:r>
            <a:br>
              <a:rPr sz="3600"/>
            </a:b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ユーザレベル・デバイスドライバの検討</a:t>
            </a:r>
            <a:br>
              <a:rPr sz="3600"/>
            </a:b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（進捗報告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松原 克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株式会社イーゲ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C2D37-4053-4F74-AD54-C9D599B328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のロック・リアルタイム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レッドを使えばある程度強引には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これは継続審議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E361-4320-40FE-BDD0-6B088BA611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実装（シリアルドライバ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TS7751R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nesas S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M501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パニオンチップ内蔵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2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互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バイト入出力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F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バッファ入出力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モー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 2.6.1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_PREEMPT=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 2.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1094-EDF4-4834-A48D-21BFAFF4ED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処理内容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割り込み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送信バッファ空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モリ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50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レジスタ入出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1C22-A1DE-4361-BCE3-FBD02465B7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1640" y="4149720"/>
            <a:ext cx="720072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20920" y="5079960"/>
            <a:ext cx="56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ネ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ソフトウェア・アークテクチャ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42920" y="4221000"/>
            <a:ext cx="3313080" cy="576360"/>
            <a:chOff x="1042920" y="4221000"/>
            <a:chExt cx="3313080" cy="576360"/>
          </a:xfrm>
        </p:grpSpPr>
        <p:sp>
          <p:nvSpPr>
            <p:cNvPr id="125" name=""/>
            <p:cNvSpPr/>
            <p:nvPr/>
          </p:nvSpPr>
          <p:spPr>
            <a:xfrm>
              <a:off x="104292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328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/O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モリマップ・ドライ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72000" y="4221000"/>
            <a:ext cx="3313080" cy="576360"/>
            <a:chOff x="4572000" y="4221000"/>
            <a:chExt cx="3313080" cy="576360"/>
          </a:xfrm>
        </p:grpSpPr>
        <p:sp>
          <p:nvSpPr>
            <p:cNvPr id="128" name=""/>
            <p:cNvSpPr/>
            <p:nvPr/>
          </p:nvSpPr>
          <p:spPr>
            <a:xfrm>
              <a:off x="457200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36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割り込みフック・ドライ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348000" y="5661000"/>
            <a:ext cx="2376360" cy="576360"/>
            <a:chOff x="3348000" y="5661000"/>
            <a:chExt cx="2376360" cy="576360"/>
          </a:xfrm>
        </p:grpSpPr>
        <p:sp>
          <p:nvSpPr>
            <p:cNvPr id="131" name=""/>
            <p:cNvSpPr/>
            <p:nvPr/>
          </p:nvSpPr>
          <p:spPr>
            <a:xfrm>
              <a:off x="3348000" y="5661000"/>
              <a:ext cx="2376360" cy="5763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6480" y="5734080"/>
              <a:ext cx="18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501 U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71640" y="2060640"/>
            <a:ext cx="4392720" cy="1728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28544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314172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276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492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708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06864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284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500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2276640"/>
            <a:ext cx="1295640" cy="1366560"/>
          </a:xfrm>
          <a:prstGeom prst="downArrow">
            <a:avLst>
              <a:gd name="adj1" fmla="val 50000"/>
              <a:gd name="adj2" fmla="val 26368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02280" y="3424320"/>
            <a:ext cx="730440" cy="865080"/>
          </a:xfrm>
          <a:custGeom>
            <a:avLst/>
            <a:gdLst/>
            <a:ahLst/>
            <a:rect l="l" t="t" r="r" b="b"/>
            <a:pathLst>
              <a:path w="460" h="545">
                <a:moveTo>
                  <a:pt x="460" y="0"/>
                </a:moveTo>
                <a:lnTo>
                  <a:pt x="251" y="54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06800" y="3429000"/>
            <a:ext cx="1789200" cy="860400"/>
          </a:xfrm>
          <a:custGeom>
            <a:avLst/>
            <a:gdLst/>
            <a:ahLst/>
            <a:rect l="l" t="t" r="r" b="b"/>
            <a:pathLst>
              <a:path w="1127" h="542">
                <a:moveTo>
                  <a:pt x="0" y="542"/>
                </a:moveTo>
                <a:lnTo>
                  <a:pt x="628" y="385"/>
                </a:lnTo>
                <a:lnTo>
                  <a:pt x="1127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2276640"/>
            <a:ext cx="1295280" cy="1366560"/>
          </a:xfrm>
          <a:prstGeom prst="downArrow">
            <a:avLst>
              <a:gd name="adj1" fmla="val 50000"/>
              <a:gd name="adj2" fmla="val 26376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2565360"/>
            <a:ext cx="13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ターミナ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24922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レベ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バド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入出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844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75DA-0554-4F77-A8F4-E9A437F371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割り込みフック・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989000"/>
            <a:ext cx="395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060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int irqhook_proc_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truct inode *inop, struct file *fil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quest_irq(ipp-&gt;irq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rqhook_proc_irq_handl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A_INTERRUP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-&gt;dev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565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ssize_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hook_proc_read(struct file *fil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ar  __user *buf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ze_t len, loff_t *ppo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repare_to_wa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&amp;ipp-&gt;q, &amp;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SK_INTERRUPTI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ending = atomic_read(&amp;ipp-&gt;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pending == 0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61A6-B314-4AE4-88F2-854929036E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メモリマップ・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2276640"/>
            <a:ext cx="7632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 iommap_mmap(struct file *filp, struct vm_area_struct *vma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ze_t size = vma-&gt;vm_end - vma-&gt;vm_sta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signed long offset = vma-&gt;vm_pgoff &lt;&lt; PAGE_SHI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RESER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page_prot = pgprot_noncached(vma-&gt;vm_page_pro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* Map each page to users' virtual memory spac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_remap_page_range(vma, vma-&gt;vm_sta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offset, size, vma-&gt;vm_page_pro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-EAGA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8249-8038-44EA-903C-DE3B84277B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UART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1628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ad(fd, &amp;n_pending, sizeof(int) &gt; 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(status =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M501_UART0_LINESTAT(&amp;iomem)) &amp; 0x0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uffer[count]= SM501_UART0_RXBUFF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us = SM501_UART0_LINESTAT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count &gt;= BUFFER_SIZ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p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loop &gt;= LOOP_COUNT) goto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 while((status &amp; 0x01)&amp;&amp;(max_count-- &gt; 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D05A-20B4-4087-A4C6-8A40F7777C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実験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実験を始めたところです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リアル入出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リアルデバイスに対し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M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AD/WRI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行ってスループットを測定してみ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501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バイト入出力モードを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ーネルドライバ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.6.13.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同梱の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・デバイスドライバ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スクとして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・デバイスドライバはシリアル入出力プロセスと一体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2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ボードとノー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C(TeraTerm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シリアル・クロスケーブルで接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ADE2-0D19-401C-850B-CC1A9899EB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実験結果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26920" y="2205000"/>
          <a:ext cx="7777440" cy="1997280"/>
        </p:xfrm>
        <a:graphic>
          <a:graphicData uri="http://schemas.openxmlformats.org/drawingml/2006/table">
            <a:tbl>
              <a:tblPr/>
              <a:tblGrid>
                <a:gridCol w="1872000"/>
                <a:gridCol w="1527120"/>
                <a:gridCol w="1425600"/>
                <a:gridCol w="1511280"/>
                <a:gridCol w="1441440"/>
              </a:tblGrid>
              <a:tr h="444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.34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9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82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436572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サイズ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バッファサイズ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ボーレート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r 38400 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測定値：同一実験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行った結果の平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A1CE-3809-4DC3-B8D9-D520CB8DF3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所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少なくとも、低負荷（じゃまするものがいない）環境では、オーバヘッドは軽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4kb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ときはむし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D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ほうが速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析する価値あり→これからし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安定性、コーディングやデバッグの容易さ、豊富なユーザランド機能が魅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0E22-6D3F-488D-BA03-BA6E64B2D7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これまでの経緯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スレッドの挙動を調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ス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s Non-R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3193920"/>
            <a:ext cx="374472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8000" y="3216240"/>
            <a:ext cx="374472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A3E8-9FF7-4CF8-980F-D7C9CC9733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今後の課題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負荷環境での挙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タス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Non-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タ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環境との比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デバイスでの評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ーネルレベ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ユーザレベ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特性を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規性を模索中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7534-79A4-480B-A934-AC8DA8B097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議論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7785-29F8-45EC-A133-866F69188B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本活動の背景と目的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でデバイスドライバを実現し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発が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ライバのバグによるシステムダウンを軽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ジーピーエルの回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レベル・デバドラ実現のためのいくつかの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モリ、物理メモリへのアクセ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割り込み要求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の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割り込みへの応答速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カーネル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の新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NPTL(Native POSIX Thread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スケジューラの改善（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(1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スケジューラ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カーネルプリエンプ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2056-C48F-425B-9F7D-1D9F72F674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組み込みソフトウェア開発の現状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デバイスのためのドライバ開発が多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プリケーションが直接デバイス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遅延の最小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スクトッ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よりもデバイスとアプリケーションが密接に関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隠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87EE-D42C-4900-A630-CFB713BCD2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ユーザレベル・デバイスドライバ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ユーザ空間でデバイスドライバ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待される効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豊富なツール・ライブラリの利用（例：ファイル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とデバッグの容易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システムハングの軽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との距離削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研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Chubb, “Get more device drivers out of kernel,” OLS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5A81-D523-49A4-B415-0F0147BE37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デバイスドライバに必要な機能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モリへの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レジスタ入出力によるデバイス制御、データ入出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割り込み受信と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理メモリの確保と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を用いてメモリへ直接アクセスするデバイスに対して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は、連続物理メモリの確保が必要なこと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ロック，リアルタイ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プリケーションへのインタフェ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B92D-FCA1-4B85-89FF-5A23E4353A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割り込み受信と処理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割り込み受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割り込み番号別のデバイスファイル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記デバイスファイル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すると、割り込みが起きるまでブロ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98A9-AF09-45FE-9C9B-DA4A9F37B3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メモリへのアクセ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マッ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mmap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への直接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dev/me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専用デバイスファイル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pen(), mmap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一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しまえば、あとはこれまでどおりアクセ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物理メモリは、確保してか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98CE-0CF9-4B31-8351-74CA7320BD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ユーザレベル・デバドラにおける</a:t>
            </a:r>
            <a:br>
              <a:rPr sz="3200"/>
            </a:b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アプリケーションへのインタフェー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レベルデバドラでは、アプリケーションと同じユーザ空間に存在できるので、プロセス間通信、共有メモリ等様々なインタフェースを実現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プリケーションとの統合も容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4A24-503E-4AFF-9961-FDB7D98701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3:55:23Z</dcterms:created>
  <dc:creator>Katsuya Matsubara</dc:creator>
  <dc:description/>
  <dc:language>en-US</dc:language>
  <cp:lastModifiedBy>matsu</cp:lastModifiedBy>
  <dcterms:modified xsi:type="dcterms:W3CDTF">2006-01-20T10:51:51Z</dcterms:modified>
  <cp:revision>71</cp:revision>
  <dc:subject/>
  <dc:title>DirectFB Issues for CE</dc:title>
</cp:coreProperties>
</file>